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B7F7C-A43B-424E-AA96-8567E7D2BA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76BE-8597-4C6D-A18A-AABE21393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5D0C-3A94-4AAA-BBDF-2CBFD6F97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E455-F5F6-4E19-98F8-848B544C7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1659-9046-405B-80DF-BC962E763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7B480-E02D-445F-BE92-56418DA31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A7838-16D4-4AF5-BB53-406A45F8B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C30B7-B26C-4316-80D0-373718E34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9EB4A-F671-4971-A0D8-0F5A622AA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0835A-D1A3-4DDE-A068-C7C948470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037F4-2E01-4589-99AE-39CA2545E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4EE64-22C0-459A-AC82-E322C85ED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C276-CD71-4A28-ACDE-97D414CE2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B5FDF-FD3D-468E-907A-461AFCD1E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D7075-7471-4E67-894D-9C2FFA21B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14B20-9C69-469A-B90A-8F4FB9CAF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D87C4-7641-4FD8-B4EA-B5BDCD783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19551-CE8E-49AE-B148-3CDB653DE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CCE8-5978-4FE4-A172-FB9444F3E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7CA1-2AD3-4BC4-9B8F-15A57E13D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45EA-7E88-498A-9EFF-09A5D0CDE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1042-6718-44DA-91F1-CDD1C2590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59FC-948F-49F8-8B19-22A371E84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673A-4C8B-49D3-B13D-597CA2916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4C4D-D24C-46FD-A7F9-028F0B7B1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5C369-3FB9-4531-862A-4F63ECA5A91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E79C2-9F86-4B21-8EA2-9FFF59E3296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7.xml"/><Relationship Id="rId3" Type="http://schemas.openxmlformats.org/officeDocument/2006/relationships/slide" Target="slide12.xml"/><Relationship Id="rId4" Type="http://schemas.openxmlformats.org/officeDocument/2006/relationships/slide" Target="slide17.xml"/><Relationship Id="rId5" Type="http://schemas.openxmlformats.org/officeDocument/2006/relationships/slide" Target="slide3.xml"/><Relationship Id="rId6" Type="http://schemas.openxmlformats.org/officeDocument/2006/relationships/slide" Target="slide8.xml"/><Relationship Id="rId7" Type="http://schemas.openxmlformats.org/officeDocument/2006/relationships/slide" Target="slide13.xml"/><Relationship Id="rId8" Type="http://schemas.openxmlformats.org/officeDocument/2006/relationships/slide" Target="slide18.xml"/><Relationship Id="rId9" Type="http://schemas.openxmlformats.org/officeDocument/2006/relationships/slide" Target="slide4.xml"/><Relationship Id="rId10" Type="http://schemas.openxmlformats.org/officeDocument/2006/relationships/slide" Target="slide9.xml"/><Relationship Id="rId11" Type="http://schemas.openxmlformats.org/officeDocument/2006/relationships/slide" Target="slide14.xml"/><Relationship Id="rId12" Type="http://schemas.openxmlformats.org/officeDocument/2006/relationships/slide" Target="slide19.xml"/><Relationship Id="rId13" Type="http://schemas.openxmlformats.org/officeDocument/2006/relationships/slide" Target="slide5.xml"/><Relationship Id="rId14" Type="http://schemas.openxmlformats.org/officeDocument/2006/relationships/slide" Target="slide10.xml"/><Relationship Id="rId15" Type="http://schemas.openxmlformats.org/officeDocument/2006/relationships/slide" Target="slide15.xml"/><Relationship Id="rId16" Type="http://schemas.openxmlformats.org/officeDocument/2006/relationships/slide" Target="slide20.xml"/><Relationship Id="rId17" Type="http://schemas.openxmlformats.org/officeDocument/2006/relationships/slide" Target="slide6.xml"/><Relationship Id="rId18" Type="http://schemas.openxmlformats.org/officeDocument/2006/relationships/slide" Target="slide11.xml"/><Relationship Id="rId19" Type="http://schemas.openxmlformats.org/officeDocument/2006/relationships/slide" Target="slide16.xml"/><Relationship Id="rId20" Type="http://schemas.openxmlformats.org/officeDocument/2006/relationships/slide" Target="slide21.xml"/><Relationship Id="rId21" Type="http://schemas.openxmlformats.org/officeDocument/2006/relationships/image" Target="../media/image1.png"/><Relationship Id="rId2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457200" y="1371600"/>
          <a:ext cx="8381880" cy="525780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urrenc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ash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reeting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oo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cc66"/>
                          </a:solidFill>
                          <a:uFillTx/>
                          <a:latin typeface="Tahoma"/>
                          <a:hlinkClick r:id="rId1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cc66"/>
                          </a:solidFill>
                          <a:uFillTx/>
                          <a:latin typeface="Tahoma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cc66"/>
                          </a:solidFill>
                          <a:uFillTx/>
                          <a:latin typeface="Tahoma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cc66"/>
                          </a:solidFill>
                          <a:uFillTx/>
                          <a:latin typeface="Tahoma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cc66"/>
                          </a:solidFill>
                          <a:uFillTx/>
                          <a:latin typeface="Tahoma"/>
                          <a:hlinkClick r:id="rId5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cc66"/>
                          </a:solidFill>
                          <a:uFillTx/>
                          <a:latin typeface="Tahoma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cc66"/>
                          </a:solidFill>
                          <a:uFillTx/>
                          <a:latin typeface="Tahoma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cc66"/>
                          </a:solidFill>
                          <a:uFillTx/>
                          <a:latin typeface="Tahoma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cc66"/>
                          </a:solidFill>
                          <a:uFillTx/>
                          <a:latin typeface="Tahoma"/>
                          <a:hlinkClick r:id="rId9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cc66"/>
                          </a:solidFill>
                          <a:uFillTx/>
                          <a:latin typeface="Tahoma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cc66"/>
                          </a:solidFill>
                          <a:uFillTx/>
                          <a:latin typeface="Tahoma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cc66"/>
                          </a:solidFill>
                          <a:uFillTx/>
                          <a:latin typeface="Tahoma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cc66"/>
                          </a:solidFill>
                          <a:uFillTx/>
                          <a:latin typeface="Tahoma"/>
                          <a:hlinkClick r:id="rId13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cc66"/>
                          </a:solidFill>
                          <a:uFillTx/>
                          <a:latin typeface="Tahoma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cc66"/>
                          </a:solidFill>
                          <a:uFillTx/>
                          <a:latin typeface="Tahoma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cc66"/>
                          </a:solidFill>
                          <a:uFillTx/>
                          <a:latin typeface="Tahoma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cc66"/>
                          </a:solidFill>
                          <a:uFillTx/>
                          <a:latin typeface="Tahoma"/>
                          <a:hlinkClick r:id="rId17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cc66"/>
                          </a:solidFill>
                          <a:uFillTx/>
                          <a:latin typeface="Tahoma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cc66"/>
                          </a:solidFill>
                          <a:uFillTx/>
                          <a:latin typeface="Tahoma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cc66"/>
                          </a:solidFill>
                          <a:uFillTx/>
                          <a:latin typeface="Tahoma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20000"/>
                      </a:solidFill>
                    </a:lnL>
                    <a:lnR w="5760">
                      <a:solidFill>
                        <a:srgbClr val="720000"/>
                      </a:solidFill>
                    </a:lnR>
                    <a:lnT w="5760">
                      <a:solidFill>
                        <a:srgbClr val="720000"/>
                      </a:solidFill>
                    </a:lnT>
                    <a:lnB w="5760">
                      <a:solidFill>
                        <a:srgbClr val="72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"/>
          <p:cNvSpPr txBox="1"/>
          <p:nvPr/>
        </p:nvSpPr>
        <p:spPr>
          <a:xfrm>
            <a:off x="2286000" y="380880"/>
            <a:ext cx="5943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France Jeopard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1"/>
          <a:stretch/>
        </p:blipFill>
        <p:spPr>
          <a:xfrm>
            <a:off x="152280" y="152280"/>
            <a:ext cx="175284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239200" y="1752480"/>
            <a:ext cx="5319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True or Fals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oing out to eat is normall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expensive in France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212920" y="1752480"/>
            <a:ext cx="4940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2 Euros is equal to abou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$_________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int: 1 Euro = $1.4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955800" y="1828800"/>
            <a:ext cx="7352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 the north and in the winter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en should wear what kind of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its when in the business atmospher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-Brigh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rip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ar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069920" y="1905120"/>
            <a:ext cx="67813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omen should avoid wear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kind of jewelry in the busin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tmospher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ar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lashy/A lot of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gl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212560" y="1752480"/>
            <a:ext cx="4737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_______ colors are mo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cceptable to wea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right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u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ark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ight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214000" y="1752480"/>
            <a:ext cx="5674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kind of fabrics are mo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cceptable to wear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attern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rip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hecker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214360" y="1752480"/>
            <a:ext cx="558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True or Fals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aring conservative cloth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s more acceptabl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212920" y="1752480"/>
            <a:ext cx="5397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True or Fals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heek kissing is not normal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n greeting someone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9760" y="1752480"/>
            <a:ext cx="7160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True or Fals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n giving a handshake it should b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ore than one pump to show respec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914400" y="1752480"/>
            <a:ext cx="6711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True or False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n invited to dinner by a French person it is expected that you bring a gift for that pers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14400" y="1219320"/>
            <a:ext cx="7010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most popular religion in Franc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Jewis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hristia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oman Catholicis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usli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914400" y="1752480"/>
            <a:ext cx="7219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True or Fals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f you bring a gift when invit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o dinner by a French person these items are acceptabl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lowers, plants, chocolat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066680" y="1752480"/>
            <a:ext cx="7753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True or Fals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n ‘cheek kissing’ is performed actual kissing of the cheek takes plac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838080" y="1752480"/>
            <a:ext cx="7925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True or Fals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rench soil is good for growing fresh fruits, vegetables, herbs, and grains almost year-roun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289240" y="1371600"/>
            <a:ext cx="5181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re in France is seafo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most popular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- In the nor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long the coa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 the sou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214360" y="1752480"/>
            <a:ext cx="5420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True or Fals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nails are extremely popula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n the coast of Franc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225800" y="1752480"/>
            <a:ext cx="6749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True or Fals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a person eats is not believe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o reflect their heritage, birth plac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ocial status, and health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115640" y="1828800"/>
            <a:ext cx="7248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ame two of the five seafoods that a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xtremely popular on the coa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f Franc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003760" y="1143000"/>
            <a:ext cx="57650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______ is the 2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nd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most popula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ligion in Franc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Jewis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hristia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oman Catholicis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usli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046240" y="1752480"/>
            <a:ext cx="6086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rue or Fals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3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rd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most popular religion i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rance is Jewish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607480" y="1752480"/>
            <a:ext cx="5052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rue or Fals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hristian is the least mo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pular religion in Franc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996840" y="1828800"/>
            <a:ext cx="73220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ver ______% of the popul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 France practice Roman Catholicism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73%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5%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80%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57%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213280" y="1752480"/>
            <a:ext cx="487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currency of France 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lled the _______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371600" y="1752480"/>
            <a:ext cx="4343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990720" y="1447920"/>
            <a:ext cx="7010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True or Fals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ipping a waiter or waitress i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ecessary because the tip is not included in the bil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533520" y="1752480"/>
            <a:ext cx="8076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ne Euro is equal to approximatel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$______ in America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$1.0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$1.4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$1.2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$1.6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corneliust</cp:lastModifiedBy>
  <dcterms:modified xsi:type="dcterms:W3CDTF">2008-11-19T15:40:28Z</dcterms:modified>
  <cp:revision>34</cp:revision>
  <dc:subject/>
  <dc:title>Slide 1</dc:title>
</cp:coreProperties>
</file>